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4.jpeg" ContentType="image/jpe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ftr" idx="29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 type="sldNum" idx="30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A810D-36A8-44ED-BE33-F822F8D880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49582-D358-4FA0-8F63-2B1FB6F03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341E5-2EA3-4261-8642-92A84EAE4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2D2DE-E6A0-49CE-BF79-8A2AD353F8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7B4CF-C591-4052-BA7C-26F837961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D8B2E-F9EB-43DE-8F72-B2045AB52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9A0BB-2D12-432A-B963-0711E84DB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6D4C0-C52B-43B9-9B2E-684EA72D5D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6CB68-5F72-4B8F-BD38-E5E7ECA260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66D5A-BDC7-48B6-8CE2-235ADA5B9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92AA2-B32B-493A-9DCA-3B6A4275C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2F8D1-7851-4A6E-8CC5-39FAD6FC3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1A8ED-F0D2-4B4A-8E13-1CDDE5E02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811B-D3E8-4DC4-9D24-01546B8FC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064E-DDB0-41F4-A503-B186D48FD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184186-7B6B-48C5-86E2-2BD37699A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94E167-D9D4-4F01-B57E-26F42BF9B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6D37E3-FF5D-41E4-8FA7-BC80589F2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762DD8-FE5A-4B15-8064-97BD5F323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DC63BE-3965-4B8C-B94A-176CA096F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EAB3EF-5DB1-42D2-8EDB-CB5E0C039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F405B1-491A-4706-9299-F8E67735E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EC3825-0AA6-4AD1-AA35-A8CC850F7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0BB1AD-94DA-4070-A421-D9A097D9E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FA2B-0074-4EBF-B15E-FD4CFF14B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5F12-3816-499D-A2B5-090A2FF9F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DE981-1F37-420E-91B0-904A87DA6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06B37-56E8-4764-819B-C93CEFA7C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1BC31-0B0F-4F33-B8BA-335436CF1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00BBE-0CC1-4FC5-A164-6C4E08707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8E112-9EE7-4FBF-B683-BD9C5DBCD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9B7F2-6224-46C4-A198-4496CA00B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84BF5-DCF5-4A4D-A55B-800C7016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5EC8-330C-43AA-9927-B14E85B14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2CCA9-25E3-40B0-B25D-D47DB797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A41A6-9320-4328-B205-F607507A6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D196E-D04C-4827-8AE4-234CD675E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00ACB-A5E3-412D-A9E2-84402782C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73707-F91A-45BE-8372-D251A152C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3D053-5533-4DB9-863A-8BF2A791F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44ECD-883A-449E-BC23-6B580ADC9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727BA-BD3F-4846-84A6-134281718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E53BE-F412-475D-BCBF-A7D81F8D6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54261-019E-4702-93B6-CA818931C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BF52-6401-4201-9E6E-F8001B290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FFB79-06D4-4FFD-8260-82D3DD54F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71ACF-2D14-47D3-AC70-859EAA77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DDE17-2F00-431C-81B7-C615877A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FDDDF-781F-41E2-BEAF-E3FF6091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94B4D-90A3-4298-B181-8797E7976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BB981-1677-45D8-A5D9-58940B142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E7575-3D6A-45BA-984F-892298FF6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B72A8-E6CA-4A80-92B8-2118C8774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4AEF6-6675-4B4F-9B3A-A8BE118CA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0C1D9-0FFD-4C25-976B-BEA304386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7599-5175-4AB5-B95A-D05EEAAF4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8C178-16AA-4A9F-9B82-666A82366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D45B1-914B-48E8-B98E-44E5022AF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A0048-D8CD-449A-81AB-2243B9189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AC787-EF6B-48B2-A961-DD12A697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0DE19-DF39-4C3F-BEF5-E1AEB3BBB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6473E-6375-47AE-AEB0-AFCED934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477EC-FC63-42E3-8C67-3DD91A8B7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36A24-AB07-4FF6-9F71-36882A7F8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52402-EA53-48A5-9BB2-A741EFE88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D86D98-0BB0-487D-9063-F16BA89A1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5AB3-DDC6-4284-8A9E-F719ADA7A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DFA60-0CC7-452F-97C5-D39822118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84C52-E485-4CBA-B28D-09FA6A86B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32536B-B338-4455-B0A3-096BE1CDC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860A99-3EE0-4E2E-8B41-690A963C3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FDA706-6625-41DD-980D-B693542BB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B01876-3092-4B17-BF2A-A57E1FC1B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7429D9-FA16-4730-9031-7ABDD9C6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629E28-4A54-434B-9798-2DF96F3A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FE0B7E-E22D-4D99-9E2D-30E39EFA9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43AAA-853E-4A2C-8774-B0AE69E1C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0ADE-D2FD-4878-91FD-45F250DDC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E30B3-A173-430F-8E31-108A1349B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E9E82C-3DB2-4C58-A90B-DC3B67A87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EE7F7D-8D8F-4480-BD05-55E4E01BF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A12170-0C3A-48DD-9213-FDE92A167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D6873F-85F4-49CB-A2AB-EA494C87F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1EF728-D586-4694-876C-AEFD37969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CB6E88-EA04-4E82-B470-20822EC2D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A2F05E-FA1F-46BF-852C-08A7C9BF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5B12CC-78AE-40F2-8B7A-5199E62F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EDEEE7-45AE-4BF0-AA73-0CC195A2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AA4A-76BD-400D-8FFE-8A35DC6B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8D9127-3B8F-4C8E-ACE8-AB21BE458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69711C-A4D5-4A00-ACC8-7C3CF7432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9922B8-BC6F-4CCC-9112-BBD2AC343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723DD0-5636-49DF-95FA-835F1730A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91543E-9364-4602-B2F9-039DCC6F8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714017-4C9D-4484-B406-9FE9F993F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402EDB-7CA6-4238-AD5D-AA8985D1D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576435-B3F5-4426-8871-07987385A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DF0134-A54B-482C-AEDA-777542EF1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BE0F43-42B9-4961-82DA-E12F461C9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1990-1BC0-422A-80F5-848E598F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F30164-0DAF-4F12-83BD-B9A4B3F2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581949-9538-41AE-B55E-F345B4BB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7C9581-537F-4F3F-ACD2-B72008DD9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97FCF6-9118-4035-A575-F05C505EE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90452B-6D3C-45A5-93E9-26C543557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25DDFD-C89E-4AC0-81E8-4354C2910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B29032-A5B1-40DB-B5B1-D0B6687FD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A8F483-14DA-4ACA-BEBF-4175AD04D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C0A91B-4472-47EF-BA10-8AF459AC9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903621-A751-40C7-B7C3-8D8BC14AE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4C07-9766-4BAC-B9E1-597D40C64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93C801-7EB6-4B25-8454-DDD0F361E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083485-96B9-4795-B86D-117AF3682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0F505F-BBFD-4D1F-95FE-F5177A4D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5D4FB2-4722-4708-8492-3B224D9A8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F74A38-8917-4CAC-AFE8-4E3FBBE2D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606E4B-A881-49B1-8C6E-530D08541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A8D404-E5FE-4338-B86F-7FF94C9C6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49010E-E298-4680-BF43-AD2B92761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F30E73-D7A8-4342-B331-E1D8A31D6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D506A8-22E2-4834-894B-A808AD323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41908-1A65-4AA5-BE88-39456F3F839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F682C-7430-4CB4-B373-28D0F87A464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F7C1A-82F7-420D-B381-5141BD25D80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7F829-C74B-430E-818A-D4FDA9D5D46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95108-A851-41E4-BD27-38C7D5E1AF9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AA6D0-4529-4C95-94FD-21B01A4F2C3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19C4C-3299-45E0-B044-717B0DDB2D4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79829-A14A-45EA-8501-E4DA1DE2505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7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56A7F-3FE6-485A-AD06-B5586B123DF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hyperlink" Target="http://www.awma.org/resources/education/outreach/images/trash.gif" TargetMode="Externa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/>
          </p:nvPr>
        </p:nvSpPr>
        <p:spPr>
          <a:xfrm>
            <a:off x="263160" y="1676520"/>
            <a:ext cx="72039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arly waste dispo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ories near rivers, dumped in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industrial areas expanded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ntrate and contain” became popul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difficult to “really” contai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iners break, leak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064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produce too much waste and we are running out of places to dump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out </a:t>
            </a:r>
            <a:r>
              <a:rPr b="0" lang="en-US" sz="2400" spc="-1" strike="noStrike">
                <a:solidFill>
                  <a:srgbClr val="e2f717"/>
                </a:solidFill>
                <a:latin typeface="Times New Roman"/>
              </a:rPr>
              <a:t>4.5 lb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er person per da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8"/>
          <p:cNvSpPr/>
          <p:nvPr/>
        </p:nvSpPr>
        <p:spPr>
          <a:xfrm>
            <a:off x="762120" y="380880"/>
            <a:ext cx="60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Chapter 30</a:t>
            </a:r>
            <a:br>
              <a:rPr sz="3200"/>
            </a:b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Wast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449" name="Picture 5" descr="fig_1_full"/>
          <p:cNvPicPr/>
          <p:nvPr/>
        </p:nvPicPr>
        <p:blipFill>
          <a:blip r:embed="rId2"/>
          <a:stretch/>
        </p:blipFill>
        <p:spPr>
          <a:xfrm>
            <a:off x="228600" y="228600"/>
            <a:ext cx="861048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 txBox="1"/>
          <p:nvPr/>
        </p:nvSpPr>
        <p:spPr>
          <a:xfrm>
            <a:off x="263520" y="990360"/>
            <a:ext cx="79660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ere are no laws against waste trad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tates import waste from other countries and trade waste amongst themselv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Basel Convention in late 1980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und toxic waste was being shipped in large amounts to developing countries and Eastern Europ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ere is a movement to outlaw thi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1" name="Rectangle 2" descr=""/>
          <p:cNvPicPr/>
          <p:nvPr/>
        </p:nvPicPr>
        <p:blipFill>
          <a:blip r:embed="rId1"/>
          <a:stretch/>
        </p:blipFill>
        <p:spPr>
          <a:xfrm>
            <a:off x="-42840" y="122400"/>
            <a:ext cx="7748640" cy="8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CERCLA (1980)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= policy regulating disposal of hazardous substanc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Times New Roman"/>
              </a:rPr>
              <a:t>Superfund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establish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mendments in 1984 and 1986 tightened standards, banned land disposal of certain chems and increased size of superfund size (doubled it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27" name="Rectang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5" descr="trash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3520" y="1401840"/>
            <a:ext cx="693396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304920" y="1523520"/>
            <a:ext cx="7386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per is #1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spaper is much of that pa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grated’ Waste Manage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ilosophy To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y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o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f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0" name="Rectangle 2" descr=""/>
          <p:cNvPicPr/>
          <p:nvPr/>
        </p:nvPicPr>
        <p:blipFill>
          <a:blip r:embed="rId1"/>
          <a:stretch/>
        </p:blipFill>
        <p:spPr>
          <a:xfrm>
            <a:off x="225360" y="73080"/>
            <a:ext cx="748656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304560" y="228240"/>
            <a:ext cx="84582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Progressive states are shooting for 70% reduction by recycl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Ultimate goals = zero production of waste!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olid Waste Disposal Act of 1976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EPA does not enforce!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al Integrated Waste Mgmt Act of 1989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ka: AB939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alled for 50% recycling by 2005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We met it (52% in 2006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2" name="Rectangle 2" descr=""/>
          <p:cNvPicPr/>
          <p:nvPr/>
        </p:nvPicPr>
        <p:blipFill>
          <a:blip r:embed="rId1"/>
          <a:stretch/>
        </p:blipFill>
        <p:spPr>
          <a:xfrm>
            <a:off x="-6480" y="-30240"/>
            <a:ext cx="7493040" cy="9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Materials managemen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Times New Roman"/>
              </a:rPr>
              <a:t>No subsidies for using virgin materials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like timber, oil, minerals….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0" lang="en-US" sz="2300" spc="-1" strike="noStrike">
                <a:solidFill>
                  <a:srgbClr val="ff0000"/>
                </a:solidFill>
                <a:latin typeface="Times New Roman"/>
              </a:rPr>
              <a:t>green building” incentiv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300" spc="-1" strike="noStrike">
                <a:solidFill>
                  <a:srgbClr val="ff0000"/>
                </a:solidFill>
                <a:latin typeface="Times New Roman"/>
              </a:rPr>
              <a:t>financial penalties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for “non-green” product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Times New Roman"/>
              </a:rPr>
              <a:t>Financial incentives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for industry to benefit env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Hit ‘em or help ‘em where it hurt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Rectangle 2" descr=""/>
          <p:cNvPicPr/>
          <p:nvPr/>
        </p:nvPicPr>
        <p:blipFill>
          <a:blip r:embed="rId1"/>
          <a:stretch/>
        </p:blipFill>
        <p:spPr>
          <a:xfrm>
            <a:off x="347760" y="268200"/>
            <a:ext cx="84358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263160" y="1598400"/>
            <a:ext cx="773748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mallest possible are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Daily cover with soil to cut back of birds, rodents, insects…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Multiple barriers (double lined) such as clay and plastic line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iquid drainage and gas collec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areful monitor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39" name="Text Box 4"/>
          <p:cNvSpPr/>
          <p:nvPr/>
        </p:nvSpPr>
        <p:spPr>
          <a:xfrm>
            <a:off x="6324480" y="6324480"/>
            <a:ext cx="281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2003 John Wiley and Sons Publis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228600" y="228600"/>
            <a:ext cx="3581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464646"/>
                </a:solidFill>
                <a:latin typeface="Arial"/>
              </a:rPr>
              <a:t>Fig 28.4  The most desirable landfill site in a humid environme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6" descr="F28_4"/>
          <p:cNvPicPr/>
          <p:nvPr/>
        </p:nvPicPr>
        <p:blipFill>
          <a:blip r:embed="rId2"/>
          <a:stretch/>
        </p:blipFill>
        <p:spPr>
          <a:xfrm>
            <a:off x="228600" y="247680"/>
            <a:ext cx="8915400" cy="6529320"/>
          </a:xfrm>
          <a:prstGeom prst="rect">
            <a:avLst/>
          </a:prstGeom>
          <a:ln w="0">
            <a:noFill/>
          </a:ln>
        </p:spPr>
      </p:pic>
      <p:sp>
        <p:nvSpPr>
          <p:cNvPr id="442" name="Text Box 7"/>
          <p:cNvSpPr/>
          <p:nvPr/>
        </p:nvSpPr>
        <p:spPr>
          <a:xfrm>
            <a:off x="5334120" y="1752480"/>
            <a:ext cx="2209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ry above water table, relatively impermeable layer below, natural filtration as seeps down very slow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Gas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oluble materials leach into groundwa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Runo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Heavy metals retained in soi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Plants taking up heavy metals and passing into food cha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4" name="Rectangle 2" descr=""/>
          <p:cNvPicPr/>
          <p:nvPr/>
        </p:nvPicPr>
        <p:blipFill>
          <a:blip r:embed="rId1"/>
          <a:stretch/>
        </p:blipFill>
        <p:spPr>
          <a:xfrm>
            <a:off x="450720" y="219240"/>
            <a:ext cx="8285400" cy="12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Over 250 million metric tons generated annually in U.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35,000 chems in U.S. classified as hazardou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Disposal is one of most serious env. problems in U.S. toda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May leak into groundwater, soil and surface wate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6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4T23:37:39Z</dcterms:created>
  <dc:creator>tosborne</dc:creator>
  <dc:description/>
  <dc:language>en-US</dc:language>
  <cp:lastModifiedBy>Teri Osborne</cp:lastModifiedBy>
  <dcterms:modified xsi:type="dcterms:W3CDTF">2012-04-10T02:58:36Z</dcterms:modified>
  <cp:revision>30</cp:revision>
  <dc:subject/>
  <dc:title>Chapter 27 Waste Management</dc:title>
</cp:coreProperties>
</file>